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437D-5558-4402-9E30-657875085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7040-2C9D-4600-80F6-C8C5A3FEB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4B40-BA06-4A6C-A784-96A918D80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1EF0-ABC4-4788-9CBD-C5F795E56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22BF-005D-42FD-A7CE-8601C23B9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A135-0E82-40C4-AFD3-CC98CA3BD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C5EA-8CD3-4003-90F8-77C65189B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5A02-80D7-4DAB-85EB-8B5466ADA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19EA-9A09-4E5B-8B59-1A735B3CA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5F9D-DDBE-430F-88AE-2DA593965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73A5-6CE5-45FE-AB1E-0D67C4876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A270-4781-4E6E-A914-E05B25AAF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91998-4718-4BD9-B566-4042F1BF3D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ÎMBRĂCĂMINTEA ROMANILO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Manualul de Limba latină, clasa a IX-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Daniela Văduva, consultant principal I. Fischer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1"/>
          <p:cNvSpPr/>
          <p:nvPr/>
        </p:nvSpPr>
        <p:spPr>
          <a:xfrm>
            <a:off x="214200" y="572400"/>
            <a:ext cx="860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533520" y="6248520"/>
            <a:ext cx="2571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siunea iunie - iul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5148360" y="4724280"/>
            <a:ext cx="1847880" cy="12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sesiunea iunie-iulie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advTm="5000"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68000" y="907920"/>
            <a:ext cx="4390920" cy="555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oga, îmbrăcămintea oficială a cetăţeanului roman, (interzisă străinilor) era o piesă din lână albă (toga candida) tăiată în două semicercuri, ale căror dimensiuni ajungeau până la şase metri.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 timp de doliu sau alte nenorociri se purta toga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e culoare neagră (toga sordida). Aranjarea ei era destul de complicată şi cerea foarte multă migal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Magistraţii şi băieţii cetăţenilor romani (până la 17 ani) purtau toga praetexta, toga tivită pe margi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cu o bandă de purpură. După ce deveneau majori, tinerii îmbrăcau toga virilă (toga virilis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unica, haină de uz curent, strânsă pe talie cu ajutorul unei cingători (cinctura), era purtată, de obicei, pe sub tog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allium şi paenula (îmbrăcăminte pentru timpul rece) au înlocuit cu timpul toga. 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emeile purtau o tunică, cu sau fără mâneci, mai largă decât cea a bărbaţilor. Pe deasupra acesteia se punea stola, o cămaşă lungă până la glezne, strânsă pe talie cu o cingătoare. Peste stola se purta o manta simplă (ricinium), sau o haină mai mare (palla). 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468360" y="0"/>
            <a:ext cx="921708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9" descr="comp_i"/>
          <p:cNvPicPr/>
          <p:nvPr/>
        </p:nvPicPr>
        <p:blipFill>
          <a:blip r:embed="rId1"/>
          <a:stretch/>
        </p:blipFill>
        <p:spPr>
          <a:xfrm>
            <a:off x="5148360" y="1484280"/>
            <a:ext cx="3600360" cy="3600360"/>
          </a:xfrm>
          <a:prstGeom prst="rect">
            <a:avLst/>
          </a:prstGeom>
          <a:ln w="0">
            <a:noFill/>
          </a:ln>
        </p:spPr>
      </p:pic>
    </p:spTree>
  </p:cSld>
  <p:transition advTm="5000"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95280" y="76500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Modurile de existenţă ale frumosului. 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njugaţi la toate modurile şi timpurile din tema de perfect, verbele de mai jos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xcludo, -ere, -si, -sum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stendo, -ere, -ndi, -sum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udo, -are, -avi, -atu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cunoaşteţi următoarele forme verbale şi traduceţi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enavissen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upivi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lueram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gnoverimus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venerun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alutaveritis. 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mpletaţi propoziţiile următoare punând verbele la indicativ perfect. Traduceţi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esar post pugnam Rom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veni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laudius ab adulescentia in villa habita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omani longo bello Gallos vince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1295280" y="404640"/>
            <a:ext cx="7848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1T15:51:42Z</dcterms:created>
  <dc:creator>CNEE</dc:creator>
  <dc:description/>
  <dc:language>en-US</dc:language>
  <cp:lastModifiedBy>s1a3</cp:lastModifiedBy>
  <dcterms:modified xsi:type="dcterms:W3CDTF">2012-06-18T11:17:06Z</dcterms:modified>
  <cp:revision>45</cp:revision>
  <dc:subject/>
  <dc:title>SALARIUL</dc:title>
</cp:coreProperties>
</file>